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3B6-56ED-4169-89AB-A7F84C3F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293-BCF5-4A82-B7D2-35D5E180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9ED-0022-4ACA-9977-B0509FE9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2CA-EE5F-4973-80F7-CAC4F28F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B79-8993-4FB8-ABFD-489E6E99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175-3F4A-4E33-971A-85EA6740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F11-6145-4E09-8E7A-18E40900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A09-FFF2-4CD4-BC58-1D03FBC8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F02-7B8C-46A0-B867-4F28E3DD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C19-B80F-4DC9-85A2-C256C93A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3C8-BD45-437F-8C50-CD991B0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627-ECA6-4B9E-BBFD-C8F25760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E073-A0C0-43FD-BBCF-C5D0595B2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6720" y="0"/>
            <a:ext cx="547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280" y="-228600"/>
            <a:ext cx="960120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5840"/>
            <a:ext cx="80769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7:53:04Z</dcterms:created>
  <dc:creator>Ted Clarke</dc:creator>
  <dc:description/>
  <dc:language>en-US</dc:language>
  <cp:lastModifiedBy>Ted Clarke</cp:lastModifiedBy>
  <dcterms:modified xsi:type="dcterms:W3CDTF">2007-06-07T21:32:32Z</dcterms:modified>
  <cp:revision>8</cp:revision>
  <dc:subject/>
  <dc:title>Slide 1</dc:title>
</cp:coreProperties>
</file>